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00E-7809-4C3D-A5A9-0C5E0919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LF groups and conditional linking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LF groups and conditional linking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can be overridden for sections and symbols, but we don’t plan on supporting this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ble attribute/value pairs harder to parse / compare than file header fl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introduced the concept in Solaris, it was extended by GNU for Lin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introduced the concept in Solaris, it was extended by GNU for Lin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s are provided for managing ELF groups, build attributes, DWARF,  etc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inking more important as embedded systems are evolving toward being self-ho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 was developed to overcome COFF limitations in a generic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A08-9313-4048-BEC2-AD99D69F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9F8-80FE-4C95-8AD8-32349AA0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60F-ADC6-4B5F-8C68-B900C816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86D-980E-40A1-8C86-AC1D3A86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9344-D16E-4B1A-9888-9DC1BA90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30A1-76B9-4771-A6BF-0F7177D5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9A84-51BD-4285-80D0-4FE79ADF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308D2-6B18-4687-A014-C545340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8632F-A88F-4AB5-9737-D8090F0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AABA-76EA-4355-85BC-C42929F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893EC-65AA-46A8-88DA-4A66B93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3A9-D703-4BCE-A524-31D47F4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6EC2-6434-464F-88BD-FC8F639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7977-58DA-401F-91EB-62F936D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41B2D-8B5F-4B12-9B6A-E5B4C76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64A5-F08B-4679-9FC6-FBD0FAED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4D07E-4907-40A3-AA63-4FC9846A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757-3F29-4B82-8300-268C7A5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8FE-A03C-4BC2-A34B-32EE206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0AC-0636-4516-AD4A-B33A9DA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4B2-F14C-4079-9276-4C02EDD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786-F4C2-4F6A-B84E-4D4F4C6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31A-4086-445B-9A6B-615EDDF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2D0-3E68-477E-82F6-BC194E9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1BE-D27F-4742-A2F6-0C89588FA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542-7361-48F7-98A0-399148CC1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ople.redhat.com/drepper/symbol-versioning" TargetMode="External"/><Relationship Id="rId3" Type="http://schemas.openxmlformats.org/officeDocument/2006/relationships/hyperlink" Target="http://www.linuxshowcase.org/2000/2000papers/papers/browndavid/browndavid_html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LF Object File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714800" y="59436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n Dar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13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14479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w data for loaded program segments is laid-out contiguously in the object file, and is mapped by “Program Segmen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44792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tivation for Program Segments:  Virtual memory systems load program data by mapping virtual addresses to file offsets and “swap in” the relevant data when acc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2057400"/>
          <a:ext cx="2133720" cy="4572000"/>
        </p:xfrm>
        <a:graphic>
          <a:graphicData uri="http://schemas.openxmlformats.org/drawingml/2006/table">
            <a:tbl>
              <a:tblPr/>
              <a:tblGrid>
                <a:gridCol w="213372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1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2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29000" y="3276720"/>
            <a:ext cx="2057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4197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429000"/>
            <a:ext cx="190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d-Only Data (Program Code / Consta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724280"/>
            <a:ext cx="190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d-Write Data (non-constant Global Variab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yout of program segments is specific to the ABI (SysV ABI example sh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wo Views of an ELF Fi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9004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Noteworthy Enhancements coming with ELF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DAT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independent Object File Edi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e multiple copies of code and data at compile time, keep one copy at link t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-of-line instances of inline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late Instanti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 Function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 ELF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has a special “group” section, which contains a list of sections that must be treated as a single un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ELF group must be uniquely identified by a symb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 ELF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4572000" cy="411480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up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lags  :  (no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mbol :  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ection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 .text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.debug_info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.debug_line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.debug_frame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Templ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400" y="1676520"/>
            <a:ext cx="4572000" cy="411480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up Table for Section "_ZN1XIiE4copyEi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lags  :  GRP_COMD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mbol :  _ZN1XIiE4copy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ection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 .text:_ZN1XIiE4copy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.debug_inf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.debug_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.debug_fr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752480"/>
            <a:ext cx="38862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mplate&lt;typename 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c T copy(T val) { return val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DAT Support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WARF Type Merg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cleverly organizing DWARF type information into subsections, we could leverage the COMDAT support to quickly and easily eliminate duplicate ty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COMDAT to eliminate redundant DWARF type information will significantly reduce (nearly eliminate) the overhead we see today with DWARF type merg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Put all DWARF types from stdio.h into a special DWARF COMDAT s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ELF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is an object file format similar to the COFF format we use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 File:  A binary format to store machine code, relocation information, and debugging information for a pro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rs:  assembler, lin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has 32 ABI-specific file header flags, which could be used for link-time compatibility checking or for other information purp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ively the ARM ABIv2 introduced a specification for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ction, which is a more expandable and expressive alternative to file header fla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Build Attributes in ".ARM.attributes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ormat Version:  'A'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0&gt;  Vendor Name:  "aeabi" (ABI for the ARM Architectur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F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ttribut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CPU_arch                   4  (ARM v5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RM_ISA_use                1  (Some ARM instructions u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PCS_wchar_t            2  (Size of wchar_t is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FP_number_model        1  (Only IEEE 754 format FP numbers u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align8_needed          1  (8-byte alignment of 8-byte data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ir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align8_preserved       1  (All required 8-byte alignments a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served, except for SP in lea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unc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enum_size              1  (Enum values occupy the small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ainer big enough to hold al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optimization_goals     5  (Optimized for good debugging, b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peed and small size preserv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FP_optimization_goals  2  (Optimized aggressively for speed, smal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ize and accuracy sacrific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Linking:  Linking in certain libraries every time you run a program so the library can be updated without re-building the execu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Versioning solves the problem of choosing the desired definition of a function during dynamic lin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(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()” (expects v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B calls “foo()” (expects v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When libraries are built, external symbols are annotated with version inform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@LIBFOO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@LIBFOO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When programs are built, the dynamic library they wish to use is specified at compile ti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 programA.cpp –l libfoo.so.1.0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annotates all references to library functions with the version information in the specified library.  That is, references to “foo” are re-mapped to references to “foo@LIBFOO1.0.0”.  This is refered to as “static bind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@LIBFOO1.0.0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B calls “foo@LIBFOO2.0.0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@LIBFOO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@LIBFOO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lly developed for Solaris as described, GNU extended symbol versioning to accommodate multiple versions of a function in a single library as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ther Rea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pecification:  ELF Symbol Vers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rticle:  Library Interface Versioning in Solaris and Lin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 File Edi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File Editor provides an abstract API for reading and writing all versions of COFF, as well as the ELF form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FF and ELF-specific APIs are available to handle format-specific oper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ocation Engine built into the OFE, which enables consistent relocation beyond the link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s outside of codegen have shown interest in using the OFE to unifying object reading source code across 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E source code can be viewed by checking out arm_ofd.  APIs are in OBJEDIT04, TICOFF04, and ELF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move to ELF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Iv2 / Symbian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dustry standard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s us to support Lin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s data structures needed for dynamic linking and other compiler enhancements (COMDAT, et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Support Sta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mbler (A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linker (A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d (all targe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Support Sta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rgeted for Early 2007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p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olute l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x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ssem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ed utility (Alche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Beyond A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sic Tasks for Porting ELF to a new 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e a “TI ELF ABI” for the ISA, which consists o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ing an ELF magic number to the ISA (Magic Numbers 140-159 registered with SCO for TI ISA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ng relocatio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 how relocation expressions will be implemented in ELF (not needed for ARM ABIv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 build attributes needed for compatibility checking (roughly equivalent to COFF file header flag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ongly suggest using SysVR4 as a baseline when defining the ELF ABI for a TI ISA.  This will help standardize the ABI between targets, and will help down the road to support Linu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dden option --object_format=elf available for all targets, but aborts with error today for non-ARM I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ng ELF with the TI ARM Compil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 cl470 --abi=eabi hello.c –z –l lnk.cmd –l rts32eabi.l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ng Prototype ELF with the TI C6000 Compiler (no reloc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 cl6x --object_format=elf hello.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id the Industry Move to ELF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FF adopted in UNIX SysV (198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OS 4, AI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 adopted COFF when we licensed the SysV PCC compiler/linker from AT&amp;T in 19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FF made sense at the time, but had several limita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maximum of 64K se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tion names limited to 8 charact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bug information only supported 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built-in support for shared libraries or dynamic link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mitations addressed in incompatible ways by different vendo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BM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PS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NU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abs-In-Coff (separate STABS debug section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FFv1, COFFv2, Dwarf-In-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adopted in UNIX SysVR4 (1989), solving COFF limit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 Solaris 2, Linux 2.0, IRIX, BS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Portability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010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Portability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0" b="37814"/>
          <a:stretch/>
        </p:blipFill>
        <p:spPr>
          <a:xfrm>
            <a:off x="1676520" y="1676520"/>
            <a:ext cx="6024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, no!!!  SCO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3366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part of SCO’s 5 billion dollar law suit against IBM, they are claiming that “Linux lifted ELF” (2004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 claims that the TIS committee overstepped their bounds when they released the ELF specification into the public dom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M has requested to have ELF format removed from SCO’s list of “misued material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many believe SCO will be given exclusive rights to the ELF format, but we’ll continue to monitor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ence:  United States District Court of Utah, Case No. 2:03CV0294D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809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FF Reiv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670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F Overview:  Relocatable Fi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37398" b="0"/>
          <a:stretch/>
        </p:blipFill>
        <p:spPr>
          <a:xfrm>
            <a:off x="685800" y="1295280"/>
            <a:ext cx="4876920" cy="539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2209680"/>
            <a:ext cx="2362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1523880"/>
            <a:ext cx="327672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Header is the only entity with a fixed file offset (0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Header and Section Header Table are the only entities that are not sect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Sections have a type identifier to indicate what kind of informaiton it hol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PROGBITS:  Program Data (Equivalent of a COFF sec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REL[A]:  Relocation Ent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SYMTAB:  Symbol 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DYNSYM: Dynamic Symb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STRTAB:  String Tab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Line Number Sections other than DWARF’s .debug_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5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362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8:59:20Z</dcterms:created>
  <dc:creator>Don Darling</dc:creator>
  <dc:description/>
  <dc:language>en-US</dc:language>
  <cp:lastModifiedBy>Don Darling</cp:lastModifiedBy>
  <dcterms:modified xsi:type="dcterms:W3CDTF">2006-07-13T16:48:58Z</dcterms:modified>
  <cp:revision>136</cp:revision>
  <dc:subject/>
  <dc:title>The ELF Object File Format</dc:title>
</cp:coreProperties>
</file>