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6879-66D4-453D-8EF7-3AC624996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ELF groups and conditional linking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ELF groups and conditional linking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s can be overridden for sections and symbols, but we don’t plan on supporting this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ble attribute/value pairs harder to parse / compare than file header fl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introduced the concept in Solaris, it was extended by GNU for Lin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introduced the concept in Solaris, it was extended by GNU for Lin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s are provided for managing ELF groups, build attributes, DWARF,  etc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linking more important as embedded systems are evolving toward being self-ho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F was developed to overcome COFF limitations in a generic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DC7-A911-4AFB-80DF-F550D520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263-AF84-4AE4-8044-72AA474D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4C7-1C2C-44F7-B6F0-52B4D12B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554-0498-4B63-A2AA-258B14EE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BFB2-9836-417C-A46B-C324A0D7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D4A91-CA0B-4611-9AF6-51A7DF0B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8CDAA-BF22-4346-8D00-AC3A950A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59773-AA63-4ECF-BDDD-7E93DC45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80641-397A-4D87-A27E-91E478FF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6E72A-3C5F-4D6F-BDA2-3FA1446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F7CF-28A1-4F6B-85A1-C9AB218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862-49D6-438F-B059-C58F3ABF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42874-B826-425C-B6EF-C66813E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61F88-3211-4027-9AAD-F0A1D17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02013-DFDF-402D-8BBD-662A006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C35C9-10D7-4C62-88CC-31185CDC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0D581-DA79-4BEF-90B8-D7E2EBC7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E0D-6C3A-42FD-8476-05CDDE51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B98-22A7-46D6-A5C4-6AAC9F7A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4FB-AC4E-4AD9-B6C0-5368CF01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459-4AF8-459E-A165-B1F041A6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5F6-FD74-4D97-A85D-E84BB358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CCC-F7FF-4B1C-9249-D9C394B2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F60-A3EA-45A7-B075-D3584450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61D8-6781-4DDE-9D25-B0B4F649F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F5DD-7827-4465-8416-663219AE5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ople.redhat.com/drepper/symbol-versioning" TargetMode="External"/><Relationship Id="rId3" Type="http://schemas.openxmlformats.org/officeDocument/2006/relationships/hyperlink" Target="http://www.linuxshowcase.org/2000/2000papers/papers/browndavid/browndavid_html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LF Object File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7714800" y="59436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n Dar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/13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1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Overview:  Executable Fi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34238" t="0" r="0" b="0"/>
          <a:stretch/>
        </p:blipFill>
        <p:spPr>
          <a:xfrm>
            <a:off x="3352680" y="1295280"/>
            <a:ext cx="5123160" cy="5391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144792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w data for loaded program segments is laid-out contiguously in the object file, and is mapped by “Program Segmen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3200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1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2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3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Overview:  Executable Fi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34238" t="0" r="0" b="0"/>
          <a:stretch/>
        </p:blipFill>
        <p:spPr>
          <a:xfrm>
            <a:off x="3352680" y="1295280"/>
            <a:ext cx="5123160" cy="539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1447920"/>
            <a:ext cx="27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tivation for Program Segments:  Virtual memory systems load program data by mapping virtual addresses to file offsets and “swap in” the relevant data when acc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200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1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2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3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29000" y="2057400"/>
          <a:ext cx="2133720" cy="4572000"/>
        </p:xfrm>
        <a:graphic>
          <a:graphicData uri="http://schemas.openxmlformats.org/drawingml/2006/table">
            <a:tbl>
              <a:tblPr/>
              <a:tblGrid>
                <a:gridCol w="213372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x800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x8001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x8002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1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Overview:  Executable Fi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34238" t="0" r="0" b="0"/>
          <a:stretch/>
        </p:blipFill>
        <p:spPr>
          <a:xfrm>
            <a:off x="3352680" y="1295280"/>
            <a:ext cx="5123160" cy="539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29000" y="3276720"/>
            <a:ext cx="2057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4197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429000"/>
            <a:ext cx="19047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ad-Only Data (Program Code / Constan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724280"/>
            <a:ext cx="19047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ad-Write Data (non-constant Global Variab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ayout of program segments is specific to the ABI (SysV ABI example sh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1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wo Views of an ELF Fi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79004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ther Noteworthy Enhancements coming with ELF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DAT Sup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Attrib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-independent Object File Edi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DAT Sup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e multiple copies of code and data at compile time, keep one copy at link tim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-of-line instances of inline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late Instanti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tual Function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DAT Support:  ELF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F has a special “group” section, which contains a list of sections that must be treated as a single un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ELF group must be uniquely identified by a symb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DAT Support:  ELF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4572000" cy="4114800"/>
          </a:xfrm>
          <a:prstGeom prst="rect">
            <a:avLst/>
          </a:prstGeom>
          <a:solidFill>
            <a:srgbClr val="33cccc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oup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lags  :  (non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ymbol :  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ection 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 .text: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.debug_info: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.debug_line: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.debug_frame:_fun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DAT Support: Templa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43400" y="1676520"/>
            <a:ext cx="4572000" cy="4114800"/>
          </a:xfrm>
          <a:prstGeom prst="rect">
            <a:avLst/>
          </a:prstGeom>
          <a:solidFill>
            <a:srgbClr val="33cccc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oup Table for Section "_ZN1XIiE4copyEi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lags  :  GRP_COMD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ymbol :  _ZN1XIiE4copy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ection 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 .text:_ZN1XIiE4copy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.debug_inf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.debug_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.debug_fr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752480"/>
            <a:ext cx="38862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mplate&lt;typename 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c T copy(T val) { return val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DAT Support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WARF Type Merg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cleverly organizing DWARF type information into subsections, we could leverage the COMDAT support to quickly and easily eliminate duplicate ty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COMDAT to eliminate redundant DWARF type information will significantly reduce (nearly eliminate) the overhead we see today with DWARF type merg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Put all DWARF types from stdio.h into a special DWARF COMDAT s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ELF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F is an object file format similar to the COFF format we use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 File:  A binary format to store machine code, relocation information, and debugging information for a progr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ers:  assembler, lin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ild Attribu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F has 32 ABI-specific file header flags, which could be used for link-time compatibility checking or for other information purpo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ively the ARM ABIv2 introduced a specification for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uild Attribu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ction, which is a more expandable and expressive alternative to file header fla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ild Attribu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Build Attributes in ".ARM.attributes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ormat Version:  'A'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&lt;0&gt;  Vendor Name:  "aeabi" (ABI for the ARM Architectur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Fi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ttribut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CPU_arch                   4  (ARM v5T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RM_ISA_use                1  (Some ARM instructions u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PCS_wchar_t            2  (Size of wchar_t is 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FP_number_model        1  (Only IEEE 754 format FP numbers u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align8_needed          1  (8-byte alignment of 8-byte data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equir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align8_preserved       1  (All required 8-byte alignments a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reserved, except for SP in lea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unc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enum_size              1  (Enum values occupy the small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container big enough to hold al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valu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optimization_goals     5  (Optimized for good debugging, b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peed and small size preserv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ag_ABI_FP_optimization_goals  2  (Optimized aggressively for speed, smal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ize and accuracy sacrific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Linking:  Linking in certain libraries every time you run a program so the library can be updated without re-building the execu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 Versioning solves the problem of choosing the desired definition of a function during dynamic lin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A calls “foo()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s of /l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1.0.0 (defines foo(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A calls “foo()” (expects v1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B calls “foo()” (expects v2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s of /l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1.0.0 (defines foo(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2.0.0 (defines foo(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When libraries are built, external symbols are annotated with version inform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1.0.0 (defines foo@LIBFOO1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2.0.0 (defines foo@LIBFOO2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When programs are built, the dynamic library they wish to use is specified at compile tim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 programA.cpp –l libfoo.so.1.0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annotates all references to library functions with the version information in the specified library.  That is, references to “foo” are re-mapped to references to “foo@LIBFOO1.0.0”.  This is refered to as “static binding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A calls “foo@LIBFOO1.0.0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B calls “foo@LIBFOO2.0.0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s of /l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1.0.0 (defines foo@LIBFOO1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foo.so.2.0.0 (defines foo@LIBFOO2.0.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mbol Versi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lly developed for Solaris as described, GNU extended symbol versioning to accommodate multiple versions of a function in a single library as w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rther Rea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pecification:  ELF Symbol Versio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Article:  Library Interface Versioning in Solaris and Lin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 File Edi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File Editor provides an abstract API for reading and writing all versions of COFF, as well as the ELF form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FF and ELF-specific APIs are available to handle format-specific oper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ocation Engine built into the OFE, which enables consistent relocation beyond the link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ups outside of codegen have shown interest in using the OFE to unifying object reading source code across 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E source code can be viewed by checking out arm_ofd.  APIs are in OBJEDIT04, TICOFF04, and ELF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move to ELF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 ABIv2 / Symbian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dustry standard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ons us to support Lin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s data structures needed for dynamic linking and other compiler enhancements (COMDAT, etc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Support Sta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mbler (AR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F linker (AR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d (all targe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Support Sta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rgeted for Early 2007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p 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 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olute l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x 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ssemb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bed utility (Alchem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Beyond A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sic Tasks for Porting ELF to a new 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e a “TI ELF ABI” for the ISA, which consists o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ing an ELF magic number to the ISA (Magic Numbers 140-159 registered with SCO for TI ISA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ng relocation 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e how relocation expressions will be implemented in ELF (not needed for ARM ABIv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e build attributes needed for compatibility checking (roughly equivalent to COFF file header flag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ongly suggest using SysVR4 as a baseline when defining the ELF ABI for a TI ISA.  This will help standardize the ABI between targets, and will help down the road to support Linu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dden option --object_format=elf available for all targets, but aborts with error today for non-ARM I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ting ELF with the TI ARM Compil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 cl470 --abi=eabi hello.c –z –l lnk.cmd –l rts32eabi.li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ting Prototype ELF with the TI C6000 Compiler (no reloc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 cl6x --object_format=elf hello.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id the Industry Move to ELF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FF adopted in UNIX SysV (198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nOS 4, AIX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I adopted COFF when we licensed the SysV PCC compiler/linker from AT&amp;T in 198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FF made sense at the time, but had several limitation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 maximum of 64K sec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ction names limited to 8 characte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bug information only supported 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built-in support for shared libraries or dynamic link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mitations addressed in incompatible ways by different vendo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BM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COF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PS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COF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NU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abs-In-Coff (separate STABS debug section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I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FFv1, COFFv2, Dwarf-In-Cof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F adopted in UNIX SysVR4 (1989), solving COFF limit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n Solaris 2, Linux 2.0, IRIX, BS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Portability Ex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0106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F Portability Ex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0" r="0" b="37814"/>
          <a:stretch/>
        </p:blipFill>
        <p:spPr>
          <a:xfrm>
            <a:off x="1676520" y="1676520"/>
            <a:ext cx="602460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h, no!!!  SCO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3366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part of SCO’s 5 billion dollar law suit against IBM, they are claiming that “Linux lifted ELF” (2004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O claims that the TIS committee overstepped their bounds when they released the ELF specification into the public dom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M has requested to have ELF format removed from SCO’s list of “misued material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many believe SCO will be given exclusive rights to the ELF format, but we’ll continue to monitor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ence:  United States District Court of Utah, Case No. 2:03CV0294D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809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FF Reiv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43400" y="152280"/>
            <a:ext cx="46702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1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F Overview:  Relocatable Fi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37398" b="0"/>
          <a:stretch/>
        </p:blipFill>
        <p:spPr>
          <a:xfrm>
            <a:off x="685800" y="1295280"/>
            <a:ext cx="4876920" cy="539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2209680"/>
            <a:ext cx="2362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1523880"/>
            <a:ext cx="327672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F Header is the only entity with a fixed file offset (0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F Header and Section Header Table are the only entities that are not section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F Sections have a type identifier to indicate what kind of informaiton it hol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PROGBITS:  Program Data (Equivalent of a COFF sec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REL[A]:  Relocation Ent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SYMTAB:  Symbol 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DYNSYM: Dynamic Symb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HT_STRTAB:  String Tab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Line Number Sections other than DWARF’s .debug_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1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581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2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text3 raw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362320"/>
            <a:ext cx="1981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8:59:20Z</dcterms:created>
  <dc:creator>Don Darling</dc:creator>
  <dc:description/>
  <dc:language>en-US</dc:language>
  <cp:lastModifiedBy>Don Darling</cp:lastModifiedBy>
  <dcterms:modified xsi:type="dcterms:W3CDTF">2006-07-13T16:48:58Z</dcterms:modified>
  <cp:revision>136</cp:revision>
  <dc:subject/>
  <dc:title>The ELF Object File Format</dc:title>
</cp:coreProperties>
</file>