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F6A-C4A6-4527-BDAF-CA75AC76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0BE6-9C63-4602-A9E6-40444E36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0E1-1DD0-4A70-94ED-3CA53AAB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BF2-7BDE-4648-BD40-629E024E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784-37AD-475C-94FC-7C5F1276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872-D769-4D60-A234-DB9BF928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D30-6B93-41E7-9E3C-2DCC9DDE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06A-E81D-441B-B338-519BE199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6A6F-6573-40CC-8EDB-1D2EF4AD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54EA-94C6-4331-B4BC-AE9F01D0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C0C-36B9-4CBB-9B54-C5C070D7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EA5-CC1D-4390-977A-F59CCE76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D009-D563-49A5-9544-A6B815EF33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MK03033C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输入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.8MHz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输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2.88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 Count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 Counte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鉴相频率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60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726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4929480" cy="5410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62720" y="304920"/>
            <a:ext cx="318456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3360" y="1038240"/>
            <a:ext cx="84772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e lo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4360" y="933480"/>
            <a:ext cx="83152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4360" y="619200"/>
            <a:ext cx="83152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58664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0282275</cp:lastModifiedBy>
  <dcterms:modified xsi:type="dcterms:W3CDTF">2012-10-26T06:56:0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